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9d9"/>
                </a:solidFill>
                <a:latin typeface="Calibri"/>
              </a:rPr>
              <a:t>Click to move the slide</a:t>
            </a:r>
            <a:endParaRPr b="0" lang="en-US" sz="2800" spc="-1" strike="noStrike">
              <a:solidFill>
                <a:srgbClr val="d9d9d9"/>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F8DFB-A064-46E7-8162-7C69CD65A90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humorous note on FIPS 140-2 “Compliant.” Make sure to suggest that folks search their favorite App Store for “FIPS” and then read the descrip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re, the vendor is OpenSSL, and not the developer or ISV.</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43F92-FCEE-4B95-A0B4-FB4E6F74AB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ational Crime Information Center (NCIC) is an FBI system. Criminal Justice Information Services (CJIS) is an FBI system. National Law Enforcement Telecommunications System (NLE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Patrol is actually using OpenSSL (Certificate 1747) for its validated cryptography.</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41CCE-CDD4-41B2-A451-FE0F7FB059D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rom 10,000 the OpenSSL FIPS Object Module is like a plug-in to the OpenSSL FIPS Capable Library. If present, the FIPS Capable Library will use the FIPS Object Module (fipscanister.o) and the cryptography is validated. If not present, the FIPS Capable Library uses its own routines (libcrypto.a) and the cryptography is not validated.</a:t>
            </a:r>
            <a:endParaRPr b="0" lang="en-US" sz="1200" spc="-1" strike="noStrike">
              <a:solidFill>
                <a:srgbClr val="000000"/>
              </a:solidFill>
              <a:latin typeface="Calibri"/>
            </a:endParaRPr>
          </a:p>
          <a:p>
            <a:pPr lvl="1"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tute listeners will recognize there a 2x routines – a validated set in the FIPS Object Module, and a non-validated set in FIPS Capable Library. And they would be right.</a:t>
            </a:r>
            <a:endParaRPr b="0" lang="en-US" sz="1200" spc="-1" strike="noStrike">
              <a:solidFill>
                <a:srgbClr val="000000"/>
              </a:solidFill>
              <a:latin typeface="Calibri"/>
            </a:endParaRPr>
          </a:p>
          <a:p>
            <a:pPr lvl="1"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application usually does not use the Object Module directly. An application can use OpenSSL FIPS Object Module directly, but its tricky to get right.</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38DD1-445E-444F-B923-81090434DFB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mportant things to note he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 Only the FIPS Object Module is under FIPS 140-2 contro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 FIPS 140-2 does not care about the environment. The OS, it libraries, runtimes, and environments are considered trusted or above repute. We cross compile by manipulating the environ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 Being “under control” means its within the bounds of the cryptographic module (CM). Other components are not covered by FIPS 140-2. That means they are outside the cryptographic module (CM) boundary.</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6479F-92EF-4AEE-B372-3A938E01C0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mportant things to note he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 Only the FIPS Object Module is under FIPS 140-2 contro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 FIPS 140-2 does not care about the environment. The OS, it libraries, runtimes, and environments are considered trusted or above repute. We cross compile by manipulating the environ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 Being “under control” means its within the bounds of the cryptographic module (CM). Other components are not covered by FIPS 140-2. That means they are outside the cryptographic module (CM) boundary.</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37468-5839-4CBE-BAAB-6279E899F7F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ntion OpenSSL FIPS 2.0 gear uses “openssl-fips-2.0.N” and “openssl-1.0.1x”; not the 0.9.8 branch of FIPS 1.0.</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0CF8B-C33D-4E1A-8935-802772914E8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plications should *not* link directly to fipscanister.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cause FIPS_premain.c is controlled, it must be used </a:t>
            </a:r>
            <a:r>
              <a:rPr b="0" i="1" lang="en-US" sz="1200" spc="-1" strike="noStrike">
                <a:solidFill>
                  <a:srgbClr val="000000"/>
                </a:solidFill>
                <a:latin typeface="Calibri"/>
              </a:rPr>
              <a:t>in-situ</a:t>
            </a:r>
            <a:r>
              <a:rPr b="0" lang="en-US" sz="1200" spc="-1" strike="noStrike">
                <a:solidFill>
                  <a:srgbClr val="000000"/>
                </a:solidFill>
                <a:latin typeface="Calibri"/>
              </a:rPr>
              <a:t>, and cannot be copied into he project’s working directory or SVN. That’s because FIPS 140-2 has both installation requirements and protection requirements.</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9BA08-8B02-4072-AC12-56E4AF8183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 sure to note limitations on testing, including private label validations. Private label validations (from the Foundation) and validations based on OpenSSL (outside the Foundation) may not have some of the function or static data due to of ‘tuning’ the distribution (such as removing un-needed functionality). About all can be said is, “This application does not appear to be based upon OpenSSL with Certificate 1747”.</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21DDA-93F9-494F-8AA8-4FC2966E489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EB112-F465-4F85-9577-9BC7069A45F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04040"/>
                </a:solidFill>
                <a:latin typeface="Calibri"/>
              </a:rPr>
              <a:t>OWASP does not endorse or recommend commercial products or services.</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DA398-E3E9-4DF7-B9DA-B3122B770C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brary directory on the file system. It must have fipscanister.{sha1|o} and fips_premain.{sha1.c}</a:t>
            </a: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3C1E4-B8EF-4DDD-88B7-C769534433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ATs provide a lot of opportunity because there are so many of them.</a:t>
            </a: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03E16-0E90-46F1-97B2-8FE8ACB9B0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PS_premain is a source file and causes the compiler to allocate memory.</a:t>
            </a: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4B039-69AE-44C3-A325-585A9E3221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ank the crowd for listening, open the floor for questions.</a:t>
            </a: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8B719-DAB1-4D1B-8E44-766EB10D1A9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map says it al….</a:t>
            </a:r>
            <a:endParaRPr b="0" lang="en-US" sz="1200" spc="-1" strike="noStrike">
              <a:solidFill>
                <a:srgbClr val="000000"/>
              </a:solidFill>
              <a:latin typeface="Calibri"/>
            </a:endParaRPr>
          </a:p>
        </p:txBody>
      </p:sp>
      <p:sp>
        <p:nvSpPr>
          <p:cNvPr id="10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13A07-DA9C-4003-9C81-6EF559045094}"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sic introduction of myself.</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5244A-DFF5-4DAA-861A-80D8E11816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plain FIPS 140-2 a bit, including the validation levels. Make sure to touch upon “hardware” and OpenSSL is unique in its “source code” validation. Explain SP800-53 is the audit, and offer major categories examined under SP800-53.</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ke sure to mention OpenSSL is Level 1.</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2F9ED-532F-4934-882C-A0E2E2C5A14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perficial OpenSSL background.</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CDFD4-2BBD-42CE-873E-BC42B8CB43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small discussion of the motivations for the source code validation. Touch upon the politics in motion but do not name any nam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MVP is Cryptographic Module Validation Program, which is a division in NIS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new ground was painful because hardware requirements were grafted on top of software. Or square software was pounded into round hardware ho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rtificate 642: revoked July 14, 2006; reinstated February, 16, 2007. CMVP action likely due to politic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rtificate 733: revoked November 29, 2007. CAVP action due to technical defects. Never fixed (cost in-effecti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MVP: Cryptographic Module Validation Program. CAVP: Cryptographic Algorithm Validation Program.</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A5389-2D18-4F62-A2B0-8A84CC3EEA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All source files shall be verified as specified in Appendix B of the provided Security Policy. Installation, protection, and initialization shall be completed as specified in Appendix C of the provided Security Policy” – http://csrc.nist.gov/groups/STM/cmvp/documents/140-1/1401val2006.htm.</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104AA-078E-4AAA-9173-1F35596FAA6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penSSL’s Security Policy is FIPS 140-2 controlled. Its difficult to change. The document is available form OpenSSL’s website, and NIST’s website. For the OpenSSL FIPS User Guide 2.0: Chapter 4 is a general treatment; and Appendix E covers iOS in particular.</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F9126-5BB3-4314-BF18-32D8A10025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5F209A-0BF1-410A-933D-085851DEB4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67080" y="76320"/>
            <a:ext cx="472464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9d9d9"/>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784F7-068E-41F8-9D1A-F52B9CD32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67080" y="76320"/>
            <a:ext cx="472464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9d9d9"/>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4DCA60-3BDC-4535-B43D-B4471CB491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267080" y="76320"/>
            <a:ext cx="472464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9d9d9"/>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D550DD-D619-43BC-A91C-169EAA75FB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267080" y="76320"/>
            <a:ext cx="472464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9d9d9"/>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A4146-C16D-4ECC-A02D-149A8469E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267080" y="76320"/>
            <a:ext cx="472464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9d9d9"/>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87E16-1B1E-4BF4-896F-6E7EBEE4E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267080" y="76320"/>
            <a:ext cx="472464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9d9d9"/>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77D65-F7EA-4011-8991-645853F28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267080" y="76320"/>
            <a:ext cx="472464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9d9d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2F5B7-C155-4332-8408-D38CD3996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267080" y="76320"/>
            <a:ext cx="4724640" cy="331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23AF6-4674-4AEB-8FA7-0B9F0F0E8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267080" y="76320"/>
            <a:ext cx="472464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9d9d9"/>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3C11A-F237-43E2-9793-94835C3F1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67080" y="76320"/>
            <a:ext cx="472464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9d9d9"/>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4B0A8-6FFA-4FD7-AC0F-83A6E2B49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67080" y="76320"/>
            <a:ext cx="472464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9d9d9"/>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D5D4C-E00B-4428-858B-CCD3EA1B4A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67080" y="76320"/>
            <a:ext cx="472464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9d9"/>
                </a:solidFill>
                <a:latin typeface="Calibri"/>
              </a:rPr>
              <a:t>Click to edit the title text format</a:t>
            </a:r>
            <a:endParaRPr b="0" lang="en-US" sz="2800" spc="-1" strike="noStrike">
              <a:solidFill>
                <a:srgbClr val="d9d9d9"/>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2CDD6-34CA-47ED-91D1-3154E012BF3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Building Applications using</a:t>
            </a:r>
            <a:br>
              <a:rPr sz="3200"/>
            </a:br>
            <a:r>
              <a:rPr b="1" lang="en-US" sz="3200" spc="-1" strike="noStrike">
                <a:solidFill>
                  <a:srgbClr val="ffffff"/>
                </a:solidFill>
                <a:latin typeface="Calibri"/>
              </a:rPr>
              <a:t>OpenSSL Validated Cryptography</a:t>
            </a:r>
            <a:endParaRPr b="0" lang="en-US" sz="3200" spc="-1" strike="noStrike">
              <a:solidFill>
                <a:srgbClr val="d9d9d9"/>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otes from the Field</a:t>
            </a:r>
            <a:br>
              <a:rPr sz="3200"/>
            </a:br>
            <a:r>
              <a:rPr b="0" lang="en-US" sz="3200" spc="-1" strike="noStrike">
                <a:solidFill>
                  <a:srgbClr val="898989"/>
                </a:solidFill>
                <a:latin typeface="Calibri"/>
              </a:rPr>
              <a:t>for Developers and Audito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FIPS 140-2 “Compliant”</a:t>
            </a:r>
            <a:endParaRPr b="0" lang="en-US" sz="3200" spc="-1" strike="noStrike">
              <a:solidFill>
                <a:srgbClr val="d9d9d9"/>
              </a:solidFill>
              <a:latin typeface="Calibri"/>
            </a:endParaRPr>
          </a:p>
        </p:txBody>
      </p:sp>
      <p:sp>
        <p:nvSpPr>
          <p:cNvPr id="69" name=""/>
          <p:cNvSpPr txBox="1"/>
          <p:nvPr/>
        </p:nvSpPr>
        <p:spPr>
          <a:xfrm>
            <a:off x="457200" y="1599840"/>
            <a:ext cx="82296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There is no such term as FIPS compliant or use of FIPS compliant algorithms.  The required term is ‘Validated’ (certified) encryptio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HS Cyber Security Team</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ing business with the US Government?</a:t>
            </a:r>
            <a:endParaRPr b="0" lang="en-US" sz="28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s </a:t>
            </a:r>
            <a:r>
              <a:rPr b="0" i="1" lang="en-US" sz="2600" spc="-1" strike="noStrike">
                <a:solidFill>
                  <a:srgbClr val="000000"/>
                </a:solidFill>
                <a:latin typeface="Calibri"/>
              </a:rPr>
              <a:t>Vendor Affirmed</a:t>
            </a:r>
            <a:r>
              <a:rPr b="0" lang="en-US" sz="2600" spc="-1" strike="noStrike">
                <a:solidFill>
                  <a:srgbClr val="000000"/>
                </a:solidFill>
                <a:latin typeface="Calibri"/>
              </a:rPr>
              <a:t>, so use </a:t>
            </a:r>
            <a:r>
              <a:rPr b="0" i="1" lang="en-US" sz="2600" spc="-1" strike="noStrike">
                <a:solidFill>
                  <a:srgbClr val="000000"/>
                </a:solidFill>
                <a:latin typeface="Calibri"/>
              </a:rPr>
              <a:t>Validated</a:t>
            </a:r>
            <a:endParaRPr b="0" lang="en-US" sz="2600" spc="-1" strike="noStrike">
              <a:solidFill>
                <a:srgbClr val="000000"/>
              </a:solidFill>
              <a:latin typeface="Calibri"/>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Validated</a:t>
            </a:r>
            <a:r>
              <a:rPr b="0" lang="en-US" sz="2600" spc="-1" strike="noStrike">
                <a:solidFill>
                  <a:srgbClr val="000000"/>
                </a:solidFill>
                <a:latin typeface="Calibri"/>
              </a:rPr>
              <a:t> Cryptography</a:t>
            </a:r>
            <a:endParaRPr b="0" lang="en-US" sz="2600" spc="-1" strike="noStrike">
              <a:solidFill>
                <a:srgbClr val="000000"/>
              </a:solidFill>
              <a:latin typeface="Calibri"/>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Validated</a:t>
            </a:r>
            <a:r>
              <a:rPr b="0" lang="en-US" sz="2600" spc="-1" strike="noStrike">
                <a:solidFill>
                  <a:srgbClr val="000000"/>
                </a:solidFill>
                <a:latin typeface="Calibri"/>
              </a:rPr>
              <a:t> Encrypt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ference OpenSSL Certificate 1747</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Oops…</a:t>
            </a:r>
            <a:endParaRPr b="0" lang="en-US" sz="3200" spc="-1" strike="noStrike">
              <a:solidFill>
                <a:srgbClr val="d9d9d9"/>
              </a:solidFill>
              <a:latin typeface="Calibri"/>
            </a:endParaRPr>
          </a:p>
        </p:txBody>
      </p:sp>
      <p:pic>
        <p:nvPicPr>
          <p:cNvPr id="71" name="Content Placeholder 6" descr=""/>
          <p:cNvPicPr/>
          <p:nvPr/>
        </p:nvPicPr>
        <p:blipFill>
          <a:blip r:embed="rId1"/>
          <a:srcRect l="-5343" t="0" r="-5343" b="0"/>
          <a:stretch/>
        </p:blipFill>
        <p:spPr>
          <a:xfrm>
            <a:off x="457200" y="1600200"/>
            <a:ext cx="8229600" cy="4724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10,000 Feet</a:t>
            </a:r>
            <a:endParaRPr b="0" lang="en-US" sz="3200" spc="-1" strike="noStrike">
              <a:solidFill>
                <a:srgbClr val="d9d9d9"/>
              </a:solidFill>
              <a:latin typeface="Calibri"/>
            </a:endParaRPr>
          </a:p>
        </p:txBody>
      </p:sp>
      <p:sp>
        <p:nvSpPr>
          <p:cNvPr id="73"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d Compone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nSSL </a:t>
            </a:r>
            <a:r>
              <a:rPr b="1" i="1" lang="en-US" sz="2800" spc="-1" strike="noStrike">
                <a:solidFill>
                  <a:srgbClr val="000000"/>
                </a:solidFill>
                <a:latin typeface="Calibri"/>
              </a:rPr>
              <a:t>FIPS Object Module</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a:t>
            </a:r>
            <a:r>
              <a:rPr b="1" i="1" lang="en-US" sz="2400" spc="-1" strike="noStrike">
                <a:solidFill>
                  <a:srgbClr val="000000"/>
                </a:solidFill>
                <a:latin typeface="Calibri"/>
              </a:rPr>
              <a:t>validated</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nSSL </a:t>
            </a:r>
            <a:r>
              <a:rPr b="1" i="1" lang="en-US" sz="2800" spc="-1" strike="noStrike">
                <a:solidFill>
                  <a:srgbClr val="000000"/>
                </a:solidFill>
                <a:latin typeface="Calibri"/>
              </a:rPr>
              <a:t>FIPS Capable Library</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a:t>
            </a:r>
            <a:r>
              <a:rPr b="1" i="1" lang="en-US" sz="2400" spc="-1" strike="noStrike">
                <a:solidFill>
                  <a:srgbClr val="000000"/>
                </a:solidFill>
                <a:latin typeface="Calibri"/>
              </a:rPr>
              <a:t>not validated </a:t>
            </a:r>
            <a:r>
              <a:rPr b="0" lang="en-US" sz="2400" spc="-1" strike="noStrike">
                <a:solidFill>
                  <a:srgbClr val="000000"/>
                </a:solidFill>
                <a:latin typeface="Calibri"/>
              </a:rPr>
              <a:t>(and never will b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 Applic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lication uses FIPS Capable Librar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PS Capable library uses FIPS Object Modu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lication is using validated cryptograph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The Components (1)</a:t>
            </a:r>
            <a:endParaRPr b="0" lang="en-US" sz="3200" spc="-1" strike="noStrike">
              <a:solidFill>
                <a:srgbClr val="d9d9d9"/>
              </a:solidFill>
              <a:latin typeface="Calibri"/>
            </a:endParaRPr>
          </a:p>
        </p:txBody>
      </p:sp>
      <p:sp>
        <p:nvSpPr>
          <p:cNvPr id="75" name=""/>
          <p:cNvSpPr txBox="1"/>
          <p:nvPr/>
        </p:nvSpPr>
        <p:spPr>
          <a:xfrm>
            <a:off x="457200" y="1599840"/>
            <a:ext cx="8229600" cy="48006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nvironment Scripts</a:t>
            </a:r>
            <a:endParaRPr b="0" lang="en-US" sz="3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nipulates native and cross-compile environment</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utside the Cryptographic Module (CM) boundary (not under FIPS 140-2 purview)</a:t>
            </a:r>
            <a:endParaRPr b="0" lang="en-US" sz="2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core Mach-O</a:t>
            </a:r>
            <a:endParaRPr b="0" lang="en-US" sz="3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ack patches module’s fingerprint (HMAC)</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ative Mac OS X applicat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utside the Cryptographic Module (CM) boundary (not under FIPS 140-2 purview)</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The Components (2)</a:t>
            </a:r>
            <a:endParaRPr b="0" lang="en-US" sz="3200" spc="-1" strike="noStrike">
              <a:solidFill>
                <a:srgbClr val="d9d9d9"/>
              </a:solidFill>
              <a:latin typeface="Calibri"/>
            </a:endParaRPr>
          </a:p>
        </p:txBody>
      </p:sp>
      <p:sp>
        <p:nvSpPr>
          <p:cNvPr id="77" name=""/>
          <p:cNvSpPr txBox="1"/>
          <p:nvPr/>
        </p:nvSpPr>
        <p:spPr>
          <a:xfrm>
            <a:off x="457200" y="1599840"/>
            <a:ext cx="822960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PS Object Module</a:t>
            </a:r>
            <a:endParaRPr b="0" lang="en-US" sz="28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bject code and one source fil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validated cryptography</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Within</a:t>
            </a:r>
            <a:r>
              <a:rPr b="0" lang="en-US" sz="2200" spc="-1" strike="noStrike">
                <a:solidFill>
                  <a:srgbClr val="000000"/>
                </a:solidFill>
                <a:latin typeface="Calibri"/>
              </a:rPr>
              <a:t> the Cryptographic Module (CM) boundary (</a:t>
            </a:r>
            <a:r>
              <a:rPr b="1" i="1" lang="en-US" sz="2200" spc="-1" strike="noStrike">
                <a:solidFill>
                  <a:srgbClr val="000000"/>
                </a:solidFill>
                <a:latin typeface="Calibri"/>
              </a:rPr>
              <a:t>Strictly controlled by FIPS 140-2</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PS Capable Library</a:t>
            </a:r>
            <a:endParaRPr b="0" lang="en-US" sz="28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ibrary capable of using FIPS Object Modul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lassic OpenSSL library with FIPS Object Module awareness and non-validated cryptography</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utside the Cryptographic Module (CM) boundary (not under FIPS 140-2 purview)</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267080" y="76320"/>
            <a:ext cx="4724640" cy="71568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Required Files (Input)</a:t>
            </a:r>
            <a:endParaRPr b="0" lang="en-US" sz="3200" spc="-1" strike="noStrike">
              <a:solidFill>
                <a:srgbClr val="d9d9d9"/>
              </a:solidFill>
              <a:latin typeface="Calibri"/>
            </a:endParaRPr>
          </a:p>
        </p:txBody>
      </p:sp>
      <p:sp>
        <p:nvSpPr>
          <p:cNvPr id="79" name=""/>
          <p:cNvSpPr txBox="1"/>
          <p:nvPr/>
        </p:nvSpPr>
        <p:spPr>
          <a:xfrm>
            <a:off x="457200" y="1599840"/>
            <a:ext cx="8229600" cy="480060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SSL Website</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ttp://www.openssl.org/source/</a:t>
            </a:r>
            <a:endParaRPr b="0" lang="en-US" sz="20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ttp://openssl.com/fips/2.0/platforms/ios/</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vironment Scripts</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tenv-darwin.sh, setenv-ios.sh</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ore Mach-O</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os-incore-2.0.1.targz</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PS Object Module</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nssl-fips-2.0.1.tar.gz</a:t>
            </a:r>
            <a:endParaRPr b="0" lang="en-US" sz="20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Strictly controlled by FIPS 140-2</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PS Capable Library</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nssl-1.0.1c.tar.gz</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Artifacts (Output)</a:t>
            </a:r>
            <a:endParaRPr b="0" lang="en-US" sz="3200" spc="-1" strike="noStrike">
              <a:solidFill>
                <a:srgbClr val="d9d9d9"/>
              </a:solidFill>
              <a:latin typeface="Calibri"/>
            </a:endParaRPr>
          </a:p>
        </p:txBody>
      </p:sp>
      <p:sp>
        <p:nvSpPr>
          <p:cNvPr id="81" name=""/>
          <p:cNvSpPr txBox="1"/>
          <p:nvPr/>
        </p:nvSpPr>
        <p:spPr>
          <a:xfrm>
            <a:off x="457200" y="1599840"/>
            <a:ext cx="82296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ore Mach-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ore_mach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ive (runs on Mac OS X)</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PS Object Module</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pscanister.o, FIPS_premain.c (and *.sha1)</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oss (runs on devic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Strictly controlled by FIPS 140-2</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PS Capable Library</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bcrypto.a, libssl.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oss (runs on devi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Demonstrations</a:t>
            </a:r>
            <a:endParaRPr b="0" lang="en-US" sz="3200" spc="-1" strike="noStrike">
              <a:solidFill>
                <a:srgbClr val="d9d9d9"/>
              </a:solidFill>
              <a:latin typeface="Calibri"/>
            </a:endParaRPr>
          </a:p>
        </p:txBody>
      </p:sp>
      <p:sp>
        <p:nvSpPr>
          <p:cNvPr id="83"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d Incore Mach-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onstra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d FIPS Object Modu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onstra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d FIPS Capable Librar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onstra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mple Applic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onstr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homer-simpson.jpg"/>
          <p:cNvPicPr/>
          <p:nvPr/>
        </p:nvPicPr>
        <p:blipFill>
          <a:blip r:embed="rId1"/>
          <a:stretch/>
        </p:blipFill>
        <p:spPr>
          <a:xfrm>
            <a:off x="6262560" y="4114800"/>
            <a:ext cx="2424240" cy="2286000"/>
          </a:xfrm>
          <a:prstGeom prst="rect">
            <a:avLst/>
          </a:prstGeom>
          <a:ln w="0">
            <a:noFill/>
          </a:ln>
        </p:spPr>
      </p:pic>
      <p:sp>
        <p:nvSpPr>
          <p:cNvPr id="85"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Auditing</a:t>
            </a:r>
            <a:endParaRPr b="0" lang="en-US" sz="3200" spc="-1" strike="noStrike">
              <a:solidFill>
                <a:srgbClr val="d9d9d9"/>
              </a:solidFill>
              <a:latin typeface="Calibri"/>
            </a:endParaRPr>
          </a:p>
        </p:txBody>
      </p:sp>
      <p:sp>
        <p:nvSpPr>
          <p:cNvPr id="86"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can the app be using validated crypto if</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PS_set_mode(1) is not call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PS_set_mode(1) fai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RR_get_error returns 0x0f06d065?</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YPTO_R_FIPS_MODE_NOT_SUPPORTED FTW!</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PS_premain.c is not compil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pscanster.o is not buil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ust, but Verif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nald Reaga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Verification</a:t>
            </a:r>
            <a:endParaRPr b="0" lang="en-US" sz="3200" spc="-1" strike="noStrike">
              <a:solidFill>
                <a:srgbClr val="d9d9d9"/>
              </a:solidFill>
              <a:latin typeface="Calibri"/>
            </a:endParaRPr>
          </a:p>
        </p:txBody>
      </p:sp>
      <p:sp>
        <p:nvSpPr>
          <p:cNvPr id="88" name=""/>
          <p:cNvSpPr txBox="1"/>
          <p:nvPr/>
        </p:nvSpPr>
        <p:spPr>
          <a:xfrm>
            <a:off x="457200" y="1599840"/>
            <a:ext cx="8229600" cy="4800600"/>
          </a:xfrm>
          <a:prstGeom prst="rect">
            <a:avLst/>
          </a:prstGeom>
          <a:noFill/>
          <a:ln w="0">
            <a:noFill/>
          </a:ln>
        </p:spPr>
        <p:txBody>
          <a:bodyPr anchor="t">
            <a:normAutofit fontScale="99000"/>
          </a:bodyPr>
          <a:p>
            <a:pPr marL="339480" indent="-33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ny opportunities</a:t>
            </a:r>
            <a:endParaRPr b="0" lang="en-US" sz="3600" spc="-1" strike="noStrike">
              <a:solidFill>
                <a:srgbClr val="000000"/>
              </a:solidFill>
              <a:latin typeface="Calibri"/>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 and without symbols</a:t>
            </a:r>
            <a:endParaRPr b="0" lang="en-US" sz="3200" spc="-1" strike="noStrike">
              <a:solidFill>
                <a:srgbClr val="000000"/>
              </a:solidFill>
              <a:latin typeface="Calibri"/>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 symbols (dSYMs) trivial</a:t>
            </a:r>
            <a:endParaRPr b="0" lang="en-US" sz="3200" spc="-1" strike="noStrike">
              <a:solidFill>
                <a:srgbClr val="000000"/>
              </a:solidFill>
              <a:latin typeface="Calibri"/>
            </a:endParaRPr>
          </a:p>
          <a:p>
            <a:pPr marL="339480" indent="-33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ith symbols</a:t>
            </a:r>
            <a:endParaRPr b="0" lang="en-US" sz="3600" spc="-1" strike="noStrike">
              <a:solidFill>
                <a:srgbClr val="000000"/>
              </a:solidFill>
              <a:latin typeface="Calibri"/>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PS_mode_set()</a:t>
            </a:r>
            <a:endParaRPr b="0" lang="en-US" sz="3200" spc="-1" strike="noStrike">
              <a:solidFill>
                <a:srgbClr val="000000"/>
              </a:solidFill>
              <a:latin typeface="Calibri"/>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PS_module_mode_set()</a:t>
            </a:r>
            <a:endParaRPr b="0" lang="en-US" sz="3200" spc="-1" strike="noStrike">
              <a:solidFill>
                <a:srgbClr val="000000"/>
              </a:solidFill>
              <a:latin typeface="Calibri"/>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PS_mode()</a:t>
            </a:r>
            <a:endParaRPr b="0" lang="en-US" sz="3200" spc="-1" strike="noStrike">
              <a:solidFill>
                <a:srgbClr val="000000"/>
              </a:solidFill>
              <a:latin typeface="Calibri"/>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PS_module_mode()</a:t>
            </a:r>
            <a:endParaRPr b="0" lang="en-US" sz="3200" spc="-1" strike="noStrike">
              <a:solidFill>
                <a:srgbClr val="000000"/>
              </a:solidFill>
              <a:latin typeface="Calibri"/>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What is OWASP?</a:t>
            </a:r>
            <a:endParaRPr b="0" lang="en-US" sz="3200" spc="-1" strike="noStrike">
              <a:solidFill>
                <a:srgbClr val="d9d9d9"/>
              </a:solidFill>
              <a:latin typeface="Calibri"/>
            </a:endParaRPr>
          </a:p>
        </p:txBody>
      </p:sp>
      <p:sp>
        <p:nvSpPr>
          <p:cNvPr id="51" name=""/>
          <p:cNvSpPr txBox="1"/>
          <p:nvPr/>
        </p:nvSpPr>
        <p:spPr>
          <a:xfrm>
            <a:off x="457200" y="1599840"/>
            <a:ext cx="8229600" cy="4800600"/>
          </a:xfrm>
          <a:prstGeom prst="rect">
            <a:avLst/>
          </a:prstGeom>
          <a:noFill/>
          <a:ln w="0">
            <a:noFill/>
          </a:ln>
        </p:spPr>
        <p:txBody>
          <a:bodyPr anchor="t">
            <a:normAutofit/>
          </a:bodyPr>
          <a:p>
            <a:pPr lvl="1"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Open Web Application Security Project</a:t>
            </a:r>
            <a:endParaRPr b="0" lang="en-US" sz="32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ot just web anymore</a:t>
            </a:r>
            <a:endParaRPr b="0" lang="en-US" sz="26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ssion Driven</a:t>
            </a:r>
            <a:endParaRPr b="0" lang="en-US" sz="32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orld wide, nonprofit, unbiased organization</a:t>
            </a:r>
            <a:endParaRPr b="0" lang="en-US" sz="26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unity Driven</a:t>
            </a:r>
            <a:endParaRPr b="0" lang="en-US" sz="32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30,000 Mail List Participants</a:t>
            </a:r>
            <a:endParaRPr b="0" lang="en-US" sz="26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200 Active Chapters in 70 countries </a:t>
            </a:r>
            <a:endParaRPr b="0" lang="en-US" sz="26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600+ Members, 56 Corporate Supporters </a:t>
            </a:r>
            <a:endParaRPr b="0" lang="en-US" sz="26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69 Academic Supporters</a:t>
            </a:r>
            <a:endParaRPr b="0" lang="en-US" sz="2600" spc="-1" strike="noStrike">
              <a:solidFill>
                <a:srgbClr val="000000"/>
              </a:solidFill>
              <a:latin typeface="Calibri"/>
            </a:endParaRPr>
          </a:p>
          <a:p>
            <a:pPr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9d9"/>
                </a:solidFill>
                <a:latin typeface="Calibri"/>
              </a:rPr>
              <a:t>OpenSSL Library Directory</a:t>
            </a:r>
            <a:endParaRPr b="0" lang="en-US" sz="2800" spc="-1" strike="noStrike">
              <a:solidFill>
                <a:srgbClr val="d9d9d9"/>
              </a:solidFill>
              <a:latin typeface="Calibri"/>
            </a:endParaRPr>
          </a:p>
        </p:txBody>
      </p:sp>
      <p:pic>
        <p:nvPicPr>
          <p:cNvPr id="90" name="Content Placeholder 5" descr="openssl-fips-lib.png"/>
          <p:cNvPicPr/>
          <p:nvPr/>
        </p:nvPicPr>
        <p:blipFill>
          <a:blip r:embed="rId1"/>
          <a:srcRect l="-10939" t="0" r="-10939"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Strings and KATs</a:t>
            </a:r>
            <a:endParaRPr b="0" lang="en-US" sz="3200" spc="-1" strike="noStrike">
              <a:solidFill>
                <a:srgbClr val="d9d9d9"/>
              </a:solidFill>
              <a:latin typeface="Calibri"/>
            </a:endParaRPr>
          </a:p>
        </p:txBody>
      </p:sp>
      <p:sp>
        <p:nvSpPr>
          <p:cNvPr id="92"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out symbo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ing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FIPS 2.0 validated module 14 Mar 2012”</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FIPS 2.0.1 validated test module 12 Jun 2012”</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nown Answer Test (KAT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ssl-fips-2.0.1/fip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eck the *.c files for static valu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rious subdirectories: aes, cmac, des, …, ecdsa, dsa,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ftest files: aes_selftest.c, …, dsa_selftes.c,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267080" y="76320"/>
            <a:ext cx="472464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9d9d9"/>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ps/rand/fips_drbg_selftest.h</a:t>
            </a:r>
            <a:endParaRPr b="0" lang="en-US" sz="3200" spc="-1" strike="noStrike">
              <a:solidFill>
                <a:srgbClr val="000000"/>
              </a:solidFill>
              <a:latin typeface="Calibri"/>
            </a:endParaRPr>
          </a:p>
          <a:p>
            <a:pPr lvl="1" marL="720720" indent="-27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br>
              <a:rPr sz="2400"/>
            </a:br>
            <a:r>
              <a:rPr b="0" lang="en-US" sz="2400" spc="-1" strike="noStrike">
                <a:solidFill>
                  <a:srgbClr val="000000"/>
                </a:solidFill>
                <a:latin typeface="Courier New"/>
              </a:rPr>
              <a:t>0x2e,0xbf,0x98,0xf9,0x85,0x27,0x8b,0xff,</a:t>
            </a:r>
            <a:br>
              <a:rPr sz="2400"/>
            </a:br>
            <a:r>
              <a:rPr b="0" lang="en-US" sz="2400" spc="-1" strike="noStrike">
                <a:solidFill>
                  <a:srgbClr val="000000"/>
                </a:solidFill>
                <a:latin typeface="Courier New"/>
              </a:rPr>
              <a:t>0x36,0xb9,0x40,0x0b,0xc0,0xa1,0xa0,0x13,</a:t>
            </a:r>
            <a:br>
              <a:rPr sz="2400"/>
            </a:br>
            <a:r>
              <a:rPr b="0" lang="en-US" sz="2400" spc="-1" strike="noStrike">
                <a:solidFill>
                  <a:srgbClr val="000000"/>
                </a:solidFill>
                <a:latin typeface="Courier New"/>
              </a:rPr>
              <a:t>0x20,0x06,0xcc,0xe6,0x2a,0x03,0x77,0x7d,</a:t>
            </a:r>
            <a:br>
              <a:rPr sz="2400"/>
            </a:br>
            <a:r>
              <a:rPr b="0" lang="en-US" sz="2400" spc="-1" strike="noStrike">
                <a:solidFill>
                  <a:srgbClr val="000000"/>
                </a:solidFill>
                <a:latin typeface="Courier New"/>
              </a:rPr>
              <a:t>0xee,0xde,0xcc,0x34,0xe3,0xcd,0x77,0xea,</a:t>
            </a:r>
            <a:br>
              <a:rPr sz="2400"/>
            </a:br>
            <a:r>
              <a:rPr b="0" lang="en-US" sz="2400" spc="-1" strike="noStrike">
                <a:solidFill>
                  <a:srgbClr val="000000"/>
                </a:solidFill>
                <a:latin typeface="Courier New"/>
              </a:rPr>
              <a:t>0xd0,0x3e,0xbe,0xdd,0xf6,0x15,0xfb,0xa7,</a:t>
            </a:r>
            <a:br>
              <a:rPr sz="2400"/>
            </a:br>
            <a:r>
              <a:rPr b="0" lang="en-US" sz="2400" spc="-1" strike="noStrike">
                <a:solidFill>
                  <a:srgbClr val="000000"/>
                </a:solidFill>
                <a:latin typeface="Courier New"/>
              </a:rPr>
              <a:t>0xd7,0x8e,0xd0,0x2e,0x2f,0x82,0x4c,0xc7,</a:t>
            </a:r>
            <a:br>
              <a:rPr sz="2400"/>
            </a:br>
            <a:r>
              <a:rPr b="0" lang="en-US" sz="2400" spc="-1" strike="noStrike">
                <a:solidFill>
                  <a:srgbClr val="000000"/>
                </a:solidFill>
                <a:latin typeface="Courier New"/>
              </a:rPr>
              <a:t>0x87,0xb1,0x6f,0xc5,0xf8,0x5c,0x78,0xde,</a:t>
            </a:r>
            <a:br>
              <a:rPr sz="2400"/>
            </a:br>
            <a:r>
              <a:rPr b="0" lang="en-US" sz="2400" spc="-1" strike="noStrike">
                <a:solidFill>
                  <a:srgbClr val="000000"/>
                </a:solidFill>
                <a:latin typeface="Courier New"/>
              </a:rPr>
              <a:t>0x77,0x9b,0x15,0x9a,0xb9,0x3c,0x38,0x38</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FIPS_premain.c</a:t>
            </a:r>
            <a:endParaRPr b="0" lang="en-US" sz="3200" spc="-1" strike="noStrike">
              <a:solidFill>
                <a:srgbClr val="d9d9d9"/>
              </a:solidFill>
              <a:latin typeface="Calibri"/>
            </a:endParaRPr>
          </a:p>
        </p:txBody>
      </p:sp>
      <p:sp>
        <p:nvSpPr>
          <p:cNvPr id="96" name=""/>
          <p:cNvSpPr txBox="1"/>
          <p:nvPr/>
        </p:nvSpPr>
        <p:spPr>
          <a:xfrm>
            <a:off x="457200" y="159984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PS_premain.c</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iled by appli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be going awa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ve symbols of interest</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PS_text_start()</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PS_text_en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PS_rodata_start[]</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PS_rodata_en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PS_signature[2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Question-Mark-Blue.png"/>
          <p:cNvPicPr/>
          <p:nvPr/>
        </p:nvPicPr>
        <p:blipFill>
          <a:blip r:embed="rId1"/>
          <a:stretch/>
        </p:blipFill>
        <p:spPr>
          <a:xfrm>
            <a:off x="2666880" y="1905120"/>
            <a:ext cx="3886200" cy="3886200"/>
          </a:xfrm>
          <a:prstGeom prst="rect">
            <a:avLst/>
          </a:prstGeom>
          <a:ln w="0">
            <a:noFill/>
          </a:ln>
        </p:spPr>
      </p:pic>
      <p:sp>
        <p:nvSpPr>
          <p:cNvPr id="98" name=""/>
          <p:cNvSpPr txBox="1"/>
          <p:nvPr/>
        </p:nvSpPr>
        <p:spPr>
          <a:xfrm>
            <a:off x="457200" y="1599840"/>
            <a:ext cx="8229600" cy="480060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Questions?</a:t>
            </a:r>
            <a:endParaRPr b="0" lang="en-US" sz="4000" spc="-1" strike="noStrike">
              <a:solidFill>
                <a:srgbClr val="000000"/>
              </a:solidFill>
              <a:latin typeface="Calibri"/>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pefully useful Answers</a:t>
            </a:r>
            <a:endParaRPr b="0" lang="en-US" sz="3600" spc="-1" strike="noStrike">
              <a:solidFill>
                <a:srgbClr val="000000"/>
              </a:solidFill>
              <a:latin typeface="Calibri"/>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Jeffrey Walton</a:t>
            </a:r>
            <a:endParaRPr b="0" lang="en-US" sz="4000" spc="-1" strike="noStrike">
              <a:solidFill>
                <a:srgbClr val="000000"/>
              </a:solidFill>
              <a:latin typeface="Calibri"/>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loader, gmail account</a:t>
            </a:r>
            <a:endParaRPr b="0" lang="en-US" sz="3600" spc="-1" strike="noStrike">
              <a:solidFill>
                <a:srgbClr val="000000"/>
              </a:solidFill>
              <a:latin typeface="Calibri"/>
            </a:endParaRPr>
          </a:p>
        </p:txBody>
      </p:sp>
      <p:sp>
        <p:nvSpPr>
          <p:cNvPr id="99"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Wrap Up</a:t>
            </a:r>
            <a:endParaRPr b="0" lang="en-US" sz="3200" spc="-1" strike="noStrike">
              <a:solidFill>
                <a:srgbClr val="d9d9d9"/>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380520" y="6268680"/>
            <a:ext cx="8458200" cy="436680"/>
          </a:xfrm>
          <a:prstGeom prst="rect">
            <a:avLst/>
          </a:prstGeom>
          <a:noFill/>
          <a:ln w="0">
            <a:noFill/>
          </a:ln>
        </p:spPr>
        <p:txBody>
          <a:bodyPr anchor="t">
            <a:normAutofit/>
          </a:bodyPr>
          <a:p>
            <a:pPr marL="982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200 Chapters, ~1600 Members, 30000+ Builders, Breakers and Defenders</a:t>
            </a:r>
            <a:endParaRPr b="0" lang="en-US" sz="2000" spc="-1" strike="noStrike">
              <a:solidFill>
                <a:srgbClr val="000000"/>
              </a:solidFill>
              <a:latin typeface="Calibri"/>
            </a:endParaRPr>
          </a:p>
        </p:txBody>
      </p:sp>
      <p:pic>
        <p:nvPicPr>
          <p:cNvPr id="53" name="Image 1" descr=""/>
          <p:cNvPicPr/>
          <p:nvPr/>
        </p:nvPicPr>
        <p:blipFill>
          <a:blip r:embed="rId1"/>
          <a:stretch/>
        </p:blipFill>
        <p:spPr>
          <a:xfrm>
            <a:off x="380880" y="1828800"/>
            <a:ext cx="8458200" cy="4387680"/>
          </a:xfrm>
          <a:prstGeom prst="rect">
            <a:avLst/>
          </a:prstGeom>
          <a:ln w="0">
            <a:noFill/>
          </a:ln>
        </p:spPr>
      </p:pic>
      <p:sp>
        <p:nvSpPr>
          <p:cNvPr id="54" name="PlaceHolder 2"/>
          <p:cNvSpPr>
            <a:spLocks noGrp="1"/>
          </p:cNvSpPr>
          <p:nvPr>
            <p:ph type="title"/>
          </p:nvPr>
        </p:nvSpPr>
        <p:spPr>
          <a:xfrm>
            <a:off x="4267080" y="12240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2f2f2"/>
                </a:solidFill>
                <a:latin typeface="Calibri"/>
              </a:rPr>
              <a:t>Around the World</a:t>
            </a:r>
            <a:endParaRPr b="0" lang="en-US" sz="3200" spc="-1" strike="noStrike">
              <a:solidFill>
                <a:srgbClr val="d9d9d9"/>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About Me</a:t>
            </a:r>
            <a:endParaRPr b="0" lang="en-US" sz="3200" spc="-1" strike="noStrike">
              <a:solidFill>
                <a:srgbClr val="d9d9d9"/>
              </a:solidFill>
              <a:latin typeface="Calibri"/>
            </a:endParaRPr>
          </a:p>
        </p:txBody>
      </p:sp>
      <p:sp>
        <p:nvSpPr>
          <p:cNvPr id="56"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effrey Walt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les include</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bile Security Architect</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nior Consultant</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urity Engineer</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nSSL Foundation</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 Time Consultant</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S and Androi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7" name="Picture 1" descr=""/>
          <p:cNvPicPr/>
          <p:nvPr/>
        </p:nvPicPr>
        <p:blipFill>
          <a:blip r:embed="rId1"/>
          <a:stretch/>
        </p:blipFill>
        <p:spPr>
          <a:xfrm>
            <a:off x="4495680" y="5143680"/>
            <a:ext cx="4064040" cy="1104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PS 140-2</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 Govern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urity standard for accredit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yptographic modu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rying levels of valida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800-53</a:t>
            </a:r>
            <a:endParaRPr b="0" lang="en-US" sz="3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urity Controls for Federal Information Systems</a:t>
            </a:r>
            <a:endParaRPr b="0" lang="en-US" sz="2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udi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formed by DH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1"/>
          <p:cNvSpPr>
            <a:spLocks noGrp="1"/>
          </p:cNvSpPr>
          <p:nvPr>
            <p:ph type="title"/>
          </p:nvPr>
        </p:nvSpPr>
        <p:spPr>
          <a:xfrm>
            <a:off x="3962520" y="76320"/>
            <a:ext cx="50292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Standards and Processes</a:t>
            </a:r>
            <a:endParaRPr b="0" lang="en-US" sz="3200" spc="-1" strike="noStrike">
              <a:solidFill>
                <a:srgbClr val="d9d9d9"/>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OpenSSL Library</a:t>
            </a:r>
            <a:endParaRPr b="0" lang="en-US" sz="3200" spc="-1" strike="noStrike">
              <a:solidFill>
                <a:srgbClr val="d9d9d9"/>
              </a:solidFill>
              <a:latin typeface="Calibri"/>
            </a:endParaRPr>
          </a:p>
        </p:txBody>
      </p:sp>
      <p:sp>
        <p:nvSpPr>
          <p:cNvPr id="61" name=""/>
          <p:cNvSpPr txBox="1"/>
          <p:nvPr/>
        </p:nvSpPr>
        <p:spPr>
          <a:xfrm>
            <a:off x="457200" y="159984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irca 199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ed upon SSLea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m Huds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ric Young</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yptographic algorithm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bcrypto.a, libcrypto.so, libcrypto.dylib,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SL/TLS implement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bssl.a, libssl.so, libssl.dylib,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FIPS 140-2 and OpenSSL</a:t>
            </a:r>
            <a:endParaRPr b="0" lang="en-US" sz="3200" spc="-1" strike="noStrike">
              <a:solidFill>
                <a:srgbClr val="d9d9d9"/>
              </a:solidFill>
              <a:latin typeface="Calibri"/>
            </a:endParaRPr>
          </a:p>
        </p:txBody>
      </p:sp>
      <p:sp>
        <p:nvSpPr>
          <p:cNvPr id="63" name=""/>
          <p:cNvSpPr txBox="1"/>
          <p:nvPr/>
        </p:nvSpPr>
        <p:spPr>
          <a:xfrm>
            <a:off x="457200" y="1599840"/>
            <a:ext cx="8229600" cy="480060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in the US Government wanted open source validation</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in corporate America did not want it to happen ($$$)</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MVP and OpenSSL Foundation broke new ground</a:t>
            </a:r>
            <a:endParaRPr b="0" lang="en-US" sz="24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veloped policies and procedures for source code</a:t>
            </a:r>
            <a:endParaRPr b="0" lang="en-US" sz="22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urce code is validated (Certificate 1747)</a:t>
            </a:r>
            <a:endParaRPr b="0" lang="en-US" sz="22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SSL has experienced post-validation issues</a:t>
            </a:r>
            <a:endParaRPr b="0" lang="en-US" sz="24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ertificate 642:</a:t>
            </a:r>
            <a:endParaRPr b="0" lang="en-US" sz="2200" spc="-1" strike="noStrike">
              <a:solidFill>
                <a:srgbClr val="000000"/>
              </a:solidFill>
              <a:latin typeface="Calibri"/>
            </a:endParaRPr>
          </a:p>
          <a:p>
            <a:pPr lvl="2" marL="11199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voked July 14, 2006; reinstated February, 16, 2007</a:t>
            </a:r>
            <a:endParaRPr b="0" lang="en-US" sz="2000" spc="-1" strike="noStrike">
              <a:solidFill>
                <a:srgbClr val="000000"/>
              </a:solidFill>
              <a:latin typeface="Calibri"/>
            </a:endParaRPr>
          </a:p>
          <a:p>
            <a:pPr lvl="2" marL="11199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reason given by CMVP</a:t>
            </a:r>
            <a:endParaRPr b="0" lang="en-US" sz="20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ertificate 733: </a:t>
            </a:r>
            <a:endParaRPr b="0" lang="en-US" sz="2200" spc="-1" strike="noStrike">
              <a:solidFill>
                <a:srgbClr val="000000"/>
              </a:solidFill>
              <a:latin typeface="Calibri"/>
            </a:endParaRPr>
          </a:p>
          <a:p>
            <a:pPr lvl="2" marL="11199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voked November 29, 2007 by CAVP</a:t>
            </a:r>
            <a:endParaRPr b="0" lang="en-US" sz="2000" spc="-1" strike="noStrike">
              <a:solidFill>
                <a:srgbClr val="000000"/>
              </a:solidFill>
              <a:latin typeface="Calibri"/>
            </a:endParaRPr>
          </a:p>
          <a:p>
            <a:pPr lvl="2" marL="11199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roken PRN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Policies and Procedures</a:t>
            </a:r>
            <a:endParaRPr b="0" lang="en-US" sz="3200" spc="-1" strike="noStrike">
              <a:solidFill>
                <a:srgbClr val="d9d9d9"/>
              </a:solidFill>
              <a:latin typeface="Calibri"/>
            </a:endParaRPr>
          </a:p>
        </p:txBody>
      </p:sp>
      <p:sp>
        <p:nvSpPr>
          <p:cNvPr id="65"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icies governing….</a:t>
            </a:r>
            <a:endParaRPr b="0" lang="en-US" sz="3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penSSL Security Policy</a:t>
            </a:r>
            <a:endParaRPr b="0" lang="en-US" sz="26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dures for…</a:t>
            </a:r>
            <a:endParaRPr b="0" lang="en-US" sz="3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cquiring</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erifying</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ilding</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stalling</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tecting</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itializing</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267080" y="76320"/>
            <a:ext cx="47246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Documentation</a:t>
            </a:r>
            <a:endParaRPr b="0" lang="en-US" sz="3200" spc="-1" strike="noStrike">
              <a:solidFill>
                <a:srgbClr val="d9d9d9"/>
              </a:solidFill>
              <a:latin typeface="Calibri"/>
            </a:endParaRPr>
          </a:p>
        </p:txBody>
      </p:sp>
      <p:sp>
        <p:nvSpPr>
          <p:cNvPr id="67"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enSSL Security Policy</a:t>
            </a:r>
            <a:endParaRPr b="0" lang="en-US" sz="3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PS 140-2 Controlled document</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ithin the Cryptographic Module (CM) boundary</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ww.openssl.org/docs/fips/SecurityPolicy-2.0.pdf</a:t>
            </a:r>
            <a:endParaRPr b="0" lang="en-US" sz="2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enSSL FIPS User Guide 2.0</a:t>
            </a:r>
            <a:endParaRPr b="0" lang="en-US" sz="3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pplement to the Security Policy</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How To” provided by the Foundation</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t under FIPS 140-2 purview</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utside the Cryptographic Module (CM) boundary</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ww.openssl.org/docs/fips/UserGuide-2.0.pdf</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30T06:23:37Z</dcterms:created>
  <dc:creator>Jeffrey Walton</dc:creator>
  <dc:description>Building FIPS Capable OpenSSL for iOS: Notes from the Field for Developers and Auditors </dc:description>
  <cp:keywords>Building FIPS Capable OpenSSL for iOS: Notes from the Field for Developers and Auditors </cp:keywords>
  <dc:language>en-US</dc:language>
  <cp:lastModifiedBy>Windows User</cp:lastModifiedBy>
  <cp:lastPrinted>2013-01-05T04:48:25Z</cp:lastPrinted>
  <dcterms:modified xsi:type="dcterms:W3CDTF">2016-03-29T11:22:52Z</dcterms:modified>
  <cp:revision>356</cp:revision>
  <dc:subject>Building FIPS Capable OpenSSL for iOS: Notes from the Field for Developers and Auditors </dc:subject>
  <dc:title>Building FIPS Capable OpenSSL for iOS</dc:title>
</cp:coreProperties>
</file>